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9BB4-45FE-4843-A543-E4022AF8EBB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305C-71B4-4113-AA84-1AED84EC3F2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051F-1DD4-4051-BA81-5CA4132E5EB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44B3-AA5A-4B7D-A68D-E705AD86685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B2B7-EDEF-482C-B948-0A1D3B9CE49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4FBB-9221-4BFB-9493-AAF2EEE68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C297-7982-43DD-911D-1221F453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46B159-640C-4FE2-89B2-B332EB34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BEB21-B353-4DD6-A8A0-FD8650F3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EEF876-1344-4EFA-9ED5-82AD7C1D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D6D05-34E2-4D87-99CB-B008C0AE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74BC3D-437D-4BED-93E5-C2E79AE3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AA03F-ADCE-4731-8425-C42E235B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64C38-DD81-495E-BDEF-F5FDFD16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8D653-1EF7-45E4-9AB1-0726DE775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C05EB-D6B9-48AE-B3BB-D4D486044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0B8F-EF48-496F-A233-398B385A4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EFCB-833B-4107-9B7D-5C03EC00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F2A3-235F-4D46-9EDF-A9FFA28A2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D2AF-2E2B-4101-81AC-F67BA2B1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FF31-0AB9-4B03-81A5-00E1C412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9E88-13BA-4D65-A1DF-6185E0C2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A97A-D610-4D62-8092-ED9A9E09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CC79-E217-40C8-8BFC-F9B0B4ED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9DBB-FA61-41D9-A2BF-2B2BA52E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0830-2FE3-4CA3-85B4-9E4E2B6E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4FF8-78BB-48D9-87C0-E1B810E6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817E-E4AA-49B9-8C7D-EC3360B3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C1B6-C863-4CA0-98E0-E11B9599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E443-187E-4345-9961-C3420F93A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6397-5030-4F0A-AF7B-B15BD4814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1BD5E-CC1C-4E99-A8FD-741FDDADE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CD1AB-8CEA-4BAE-A3FA-3713B3FE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ED17F-D0DE-49DE-9599-9D988D3B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D7504-F2E2-482F-BF10-A87E3EB9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9FB64-EFCC-4576-8486-4D6C2328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AC58-8AA2-4504-BC47-78F89E77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38408-3C7C-4854-84E4-217D7360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D2D7D-1FEA-481D-8DFA-CD90C914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2AE27-DF71-485F-B7D3-09315F4C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24FD6-DD08-4DFC-8437-A4845BFC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8C02B-469E-4CD0-A3F9-00C29953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1A6AC-7915-41C5-A98B-C3D150828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028CE-2D27-4D8E-8F8B-FDF02D67E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AF7A1-8519-48DF-AA78-6B45435F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A065D-32E3-4B0D-837A-FE6645CF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21FA9-BA11-4800-98A2-5E9C8EDA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4E60-D648-498F-AEFE-5DC304FF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A021B-0DAC-47FD-AE93-A4244B6A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3022E-5ED6-4058-B690-E9994A9E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14E2C-DD4E-402A-B0B4-45D0DDD1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20A12-0748-470C-BEB3-B82624CA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1F300-DBB7-4B38-BDD1-2AB28335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498D2-5795-41EE-9CD2-2B0583C4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B405E-8303-4023-86C1-9313BCF9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5ED06-78F8-46D4-BF0F-722918B2A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A26DE-C27C-4DD7-AA61-6D380E42E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DB5FE-3CB1-40D3-A43D-F0CD1B92D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15D4-A4A2-4498-B3CE-EAC15DD3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89099-6098-450F-85FB-55B57D69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333BC-D81D-4475-8740-6542E763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2160F-0E90-4B98-BDE5-C560C4F9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4D627-645C-44A3-9592-943458D3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B85E7-0322-43A7-A7FC-02E820CD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D04EF-7FC1-40AE-AD71-3953CA71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741F0-FAA2-40A1-94E6-A7BA4E05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6F719-9E29-4460-B186-C5DBB87B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05F1F-6C7D-4ED1-8B05-B2271F1E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5F625-A59B-4E7D-A197-408EC7976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DD1D-D665-470D-9207-B594659A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5903D-360E-4D77-BB54-C7A2713F7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45897-8DFD-44CD-AF38-3D5A127EB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83C12-060B-4BEF-9125-5E34B9FB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421EF-2818-4F2F-947D-5789E912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5903C-18A9-4130-8F36-F7B67BDC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F35EF-3AB5-4F6A-8C1A-7750924A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EE5E2-7D9E-4836-937D-DAC6CBF6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A84ED-2545-455F-AECA-7EB3D3FA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C6A8E-C7FB-4CBB-8B10-54BD3E54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B9368-AFC0-4CCD-8D47-9EA7386E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D4E0-1CDF-4693-ABE2-3A8CE4AF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23517-B99B-467D-9F85-F379BB69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5976B-A2B0-4B06-B433-E4904044A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AD5FD-A7B0-45DC-B35B-55A5D8877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F1AC1-F7D6-46CF-83A4-F03B61E1D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C0BF8-95D4-41BA-9A88-7C80207B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9167F-0136-4447-82FB-427F816D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93D73-0F75-4C43-9314-99FC3290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C9CA7-F795-41BF-A2DD-A7C5C229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633AB-85FE-48C3-A2E9-711D1EB0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2FAAE-0F6C-430B-9764-03429E38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BEF3-260E-4E96-ACB9-EE5FCB2B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A023A-6B74-4768-88CA-9BB325C0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5FA04-B858-444A-A669-CC9C27B3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3C77C-37A2-4A3C-820C-10591CEA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4AA6A-1DED-410D-9117-CC11E007B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6D521-8510-43FE-96D1-F18AFA3A6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80079-CDF0-47A0-9F78-AE8065447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F98CF-6F19-4C06-BA19-A47565D9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F7A1E-F31D-459E-9DD0-63783868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1D0F9-D645-4540-B0C5-7675A61F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5A823-93F2-455E-9835-F1BDDCB8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67D2-7804-4FF5-AB36-4B3C846A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9A105-7FEC-4D83-9C82-01969EDC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B0F6F-B219-43EC-A71E-9E366006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B0DC5-4B5B-4CB9-B72A-DDCA3562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99731-40BB-4A10-8AC1-5CAE087D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A2023-284A-4E42-AEAD-02801267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BE7F9-9E12-4702-B9F0-59CA6C4F5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925BD-44ED-4AEB-9EFA-EC33530B5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3BDEC-FF66-4D83-AAAF-97E272C7F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E618C-140F-42AA-B29B-49D5650E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166FF-9A65-4F61-A89E-67F0A2FC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2A29-B325-46D6-865C-5F10BDEF0C51}" type="slidenum">
              <a:rPr b="0" lang="en-GB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EEAC-3C3B-4A26-988D-EC49B0138FB8}" type="slidenum">
              <a:rPr b="0" lang="en-GB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4469-FCCB-4824-9EC1-C0D428D7BD31}" type="slidenum">
              <a:rPr b="0" lang="en-GB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3C51-3466-4076-AD45-28DA5C69CF72}" type="slidenum">
              <a:rPr b="0" lang="en-GB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D42E-9201-4E89-A9C3-438EB6764074}" type="slidenum">
              <a:rPr b="0" lang="en-GB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5B53-8E2E-40AA-B175-1B0E2318B872}" type="slidenum">
              <a:rPr b="0" lang="en-GB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8045-EDA0-42AE-9327-FD967E499D26}" type="slidenum">
              <a:rPr b="0" lang="en-GB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4143-3996-4791-8EBF-DDA57A695D71}" type="slidenum">
              <a:rPr b="0" lang="en-GB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00FE-8B24-460C-831C-49B6FA6130B6}" type="slidenum">
              <a:rPr b="0" lang="en-GB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68912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80520" y="856800"/>
            <a:ext cx="845820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443329"/>
                </a:solidFill>
                <a:latin typeface="Blue Ridge Heavy SF"/>
              </a:rPr>
              <a:t>EDUCATING THE 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443329"/>
                </a:solidFill>
                <a:latin typeface="Blue Ridge Heavy SF"/>
              </a:rPr>
              <a:t>INTROVERTED CHILD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04920" y="1553760"/>
            <a:ext cx="868680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Constantly seek attention and external reward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Require too much stimulation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People and crowd-pleaser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Compromise their values to gain acceptanc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Showy, loud, overbearing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Anxious about how they appear to other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Short attention span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Rely on society’s values as moral compas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Overpower others with their ideas even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if wrong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Down Arrow 3"/>
          <p:cNvSpPr/>
          <p:nvPr/>
        </p:nvSpPr>
        <p:spPr>
          <a:xfrm>
            <a:off x="214200" y="1643040"/>
            <a:ext cx="571680" cy="485784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304920" y="1553760"/>
            <a:ext cx="868680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Loud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Lots of distractions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Group work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Need to fit in/conform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Little time to self or being self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Few opportunities to regenerate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Constant dynamics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Conflict of time, space, expectations and temperament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Introverts need to learn coping strategies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304920" y="1554120"/>
            <a:ext cx="86868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Introvert pupils need time to think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Large groups can overwhelm them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They require opportunities to contribute without being in the spotlight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They will perform better with individual project work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School should have quiet study areas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Introverts should give themselves permission to be who they are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‘</a:t>
            </a: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Conforming’ and ‘fitting in’ can contribute to adult neurosis later in life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The pressure to process information quickly puts introverts at a disadvantage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Parents/carers should be involved in the process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Introverts attend to what interests them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They receive and process information through slower pathways in their brains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Complex perceptions and ideas are synthesised during periods of rest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They thrive with acceptance and patience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They require a sense of ownership of the problem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They like clear instructions and information.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They enjoy polishing their ideas. (Perfectionism)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They believe rewards should come to those who wait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Introverts can be forgotten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Introverts can get lost in the crowd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They are frequently misunderstood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They can be labelled and typecast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Classrooms can be too loud and distracting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Introverts can feel rejected if their effort is not acknowledged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Introverts are not good at quick responses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Only a tiny fraction of an introvert’s talents can be seen in a conventional class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Use visual keys, music, metaphors. (Abstract)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Prefer unstructured creative time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Like to make connections with the familiar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Synthesise new concepts from diverse sources of information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Excel with private coursework/projects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Are naturally curious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Need flexibility to pursue pathways of thought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Take in and adapt new information with ease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Need clear instructions and expectations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Want grading criteria explained in advance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Want to know what it takes to pass/succeed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Work best with words and numbers. (Concrete)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Like logical problem-solving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Prefer critical analysis to abstract conceptualisation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Wish to use investigative skills independently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Prefer written, structured reports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Steven Spielberg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George Lucas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Albert Einstein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Michelangelo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Harrison Ford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Johnny Depp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Abraham Lincoln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Mahatma Gandhi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Clint Eastwood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Michael Jordan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Charles Schulz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Florence Nightingale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Jane Austin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Mary Shelley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Gwyneth Paltrow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Michele Pfeiffer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Louis Pasteur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Charles Darwin 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Bruce Lee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Aung San Suu Kyi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Sir Alec Guinness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Sir Anthony Hopkins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Democracy survives because of the watchful guidance of a minority.”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Without the few, the many are nothing.”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If we can not now end our differences, at least let us make the world safe for diversity.”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Introversion is the state or tendency toward being wholly or predominantly concerned with one’s own mental life.”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Extraversion is the state or habit of seeking      gratification from outside the self.”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1553760"/>
            <a:ext cx="868680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Carl Jung popularised the terms introvert and extravert to refer to temperaments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Hans Eysenck presumed the differences to be the result of brain chemistry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The importance of genetics in determining temperament is controversial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Personality questionnaires (Myers-Briggs, Keirsey, Minnesota Multiphasic) help employers and career counsellors to determine appropriate traits but are not the whole picture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3760"/>
            <a:ext cx="868680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e3b30"/>
                </a:solidFill>
                <a:latin typeface="Franklin Gothic Book"/>
              </a:rPr>
              <a:t>The celebrity, me-too culture disadvantages introverts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e3b30"/>
                </a:solidFill>
                <a:latin typeface="Franklin Gothic Book"/>
              </a:rPr>
              <a:t>Parents can sometimes think there is something wrong with their introverted child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e3b30"/>
                </a:solidFill>
                <a:latin typeface="Franklin Gothic Book"/>
              </a:rPr>
              <a:t>Introvert children can be the subject of bullying if they do not fit in or conform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e3b30"/>
                </a:solidFill>
                <a:latin typeface="Franklin Gothic Book"/>
              </a:rPr>
              <a:t>Introverted pupils can be easily overlooked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e3b30"/>
                </a:solidFill>
                <a:latin typeface="Franklin Gothic Book"/>
              </a:rPr>
              <a:t>Introversion and extraversion are normal temperaments at opposite ends of a spectrum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e3b30"/>
                </a:solidFill>
                <a:latin typeface="Franklin Gothic Book"/>
              </a:rPr>
              <a:t>Introversion can be misdiagnosed as Asperger Syndrome, Avoidant, Anti-social disorder or highly sensitive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e3b30"/>
                </a:solidFill>
                <a:latin typeface="Franklin Gothic Book"/>
              </a:rPr>
              <a:t>Introverts constitute about 25% of the population but 65-70% of gifted and talented students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e main difference between an introvert and extravert is how they source their energy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Introverts are energy </a:t>
            </a:r>
            <a:r>
              <a:rPr b="0" i="1" lang="en-GB" sz="3200" spc="-1" strike="noStrike">
                <a:solidFill>
                  <a:srgbClr val="4e3b30"/>
                </a:solidFill>
                <a:latin typeface="Franklin Gothic Book"/>
              </a:rPr>
              <a:t>conserver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Extraverts are energy </a:t>
            </a:r>
            <a:r>
              <a:rPr b="0" i="1" lang="en-GB" sz="3200" spc="-1" strike="noStrike">
                <a:solidFill>
                  <a:srgbClr val="4e3b30"/>
                </a:solidFill>
                <a:latin typeface="Franklin Gothic Book"/>
              </a:rPr>
              <a:t>spender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Introverts look within for their reward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Extraverts look outside for their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Children are born with a natural temperament disposition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There is no way of knowing if a child will be introvert or extravert before birth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Introvert and extravert brains access different neurotransmitters into different habitual pathways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Temperament can not be changed at will.  Understanding innate traits allows us to emphasise strengths and minimise stress, however. 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Introverts and extraverts display different behaviours because of brain chemistry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3760"/>
            <a:ext cx="868680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Skilled at listening and observing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Caring, thoughtful, focused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Self-contained, independent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Make lasting relationship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Set a good example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Have a deep, long-term influence on group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Notice subtleties, changes and detail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Loyal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Explore facts, feelings and how things work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Up Arrow 3"/>
          <p:cNvSpPr/>
          <p:nvPr/>
        </p:nvSpPr>
        <p:spPr>
          <a:xfrm>
            <a:off x="214200" y="1500120"/>
            <a:ext cx="571680" cy="4857840"/>
          </a:xfrm>
          <a:prstGeom prst="upArrow">
            <a:avLst>
              <a:gd name="adj1" fmla="val 50000"/>
              <a:gd name="adj2" fmla="val 50001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e3b30"/>
                </a:solidFill>
                <a:latin typeface="Franklin Gothic Book"/>
              </a:rPr>
              <a:t>Too sensitive, reclusive and closed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e3b30"/>
                </a:solidFill>
                <a:latin typeface="Franklin Gothic Book"/>
              </a:rPr>
              <a:t>Stay quiet even if they have the best idea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e3b30"/>
                </a:solidFill>
                <a:latin typeface="Franklin Gothic Book"/>
              </a:rPr>
              <a:t>Are uncertain of how to act and speak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e3b30"/>
                </a:solidFill>
                <a:latin typeface="Franklin Gothic Book"/>
              </a:rPr>
              <a:t>Trouble expressing themselves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e3b30"/>
                </a:solidFill>
                <a:latin typeface="Franklin Gothic Book"/>
              </a:rPr>
              <a:t>Get tired easily in social situations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e3b30"/>
                </a:solidFill>
                <a:latin typeface="Franklin Gothic Book"/>
              </a:rPr>
              <a:t>Appear awkward, aloof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e3b30"/>
                </a:solidFill>
                <a:latin typeface="Franklin Gothic Book"/>
              </a:rPr>
              <a:t>Blurt out the truth sometimes cruelly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e3b30"/>
                </a:solidFill>
                <a:latin typeface="Franklin Gothic Book"/>
              </a:rPr>
              <a:t>Difficult to figure out.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e3b30"/>
                </a:solidFill>
                <a:latin typeface="Franklin Gothic Book"/>
              </a:rPr>
              <a:t>Hard work. High maintenance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e3b30"/>
                </a:solidFill>
                <a:latin typeface="Franklin Gothic Book"/>
              </a:rPr>
              <a:t>Can unsettle extraverts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Down Arrow 3"/>
          <p:cNvSpPr/>
          <p:nvPr/>
        </p:nvSpPr>
        <p:spPr>
          <a:xfrm>
            <a:off x="214200" y="1571760"/>
            <a:ext cx="500040" cy="435744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Easily fit in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Energetic.  Get a lot done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Confident in their own abilitie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Communicate freely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Put others at ease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Can spread enthusiasm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Lively and up-front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Good rapport.  Bring people together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Up Arrow 3"/>
          <p:cNvSpPr/>
          <p:nvPr/>
        </p:nvSpPr>
        <p:spPr>
          <a:xfrm>
            <a:off x="214200" y="1571760"/>
            <a:ext cx="571680" cy="4071960"/>
          </a:xfrm>
          <a:prstGeom prst="upArrow">
            <a:avLst>
              <a:gd name="adj1" fmla="val 50000"/>
              <a:gd name="adj2" fmla="val 49991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20:19:40Z</dcterms:created>
  <dc:creator>USER</dc:creator>
  <dc:description/>
  <dc:language>en-US</dc:language>
  <cp:lastModifiedBy>Kathleen Grim</cp:lastModifiedBy>
  <dcterms:modified xsi:type="dcterms:W3CDTF">2013-01-12T23:22:02Z</dcterms:modified>
  <cp:revision>36</cp:revision>
  <dc:subject/>
  <dc:title>“You’LL ALWAYS FIND ME IN THE         KITCHEN AT PARTIES.”</dc:title>
</cp:coreProperties>
</file>